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A24-FB20-417F-8639-A42068CA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DB7F-7395-48C7-99BE-824CBE6B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C869-9E06-4472-903C-BBACFDE1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449-D355-4244-A806-60DFD4CC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752D-BA85-4D3D-BC37-0E1C1C52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98C-8989-47C2-BAA7-AF000AE1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A57-C8E4-47C6-A8D9-6F6F1DEA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5B9-6404-45AF-AD16-6FC7916D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8F3-35E6-4866-A172-3FA3A258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E91-3901-410F-BE53-717B7B40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A05C-EAA6-426B-865B-9ABAD92C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2B4C-2D5E-4055-86AD-1AD12393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8362-AE52-4174-80F3-A106A9A6D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package" Target="../embeddings/oleObject1.docx"/><Relationship Id="rId4" Type="http://schemas.openxmlformats.org/officeDocument/2006/relationships/image" Target="../media/image3.pct"/><Relationship Id="rId5" Type="http://schemas.openxmlformats.org/officeDocument/2006/relationships/package" Target="../embeddings/oleObject2.docx"/><Relationship Id="rId6" Type="http://schemas.openxmlformats.org/officeDocument/2006/relationships/image" Target="../media/image4.pct"/><Relationship Id="rId7" Type="http://schemas.openxmlformats.org/officeDocument/2006/relationships/package" Target="../embeddings/oleObject3.docx"/><Relationship Id="rId8" Type="http://schemas.openxmlformats.org/officeDocument/2006/relationships/image" Target="../media/image5.pct"/><Relationship Id="rId9" Type="http://schemas.openxmlformats.org/officeDocument/2006/relationships/package" Target="../embeddings/oleObject4.docx"/><Relationship Id="rId10" Type="http://schemas.openxmlformats.org/officeDocument/2006/relationships/image" Target="../media/image6.pct"/><Relationship Id="rId11" Type="http://schemas.openxmlformats.org/officeDocument/2006/relationships/package" Target="../embeddings/oleObject5.docx"/><Relationship Id="rId12" Type="http://schemas.openxmlformats.org/officeDocument/2006/relationships/image" Target="../media/image7.pct"/><Relationship Id="rId13" Type="http://schemas.openxmlformats.org/officeDocument/2006/relationships/image" Target="../media/image8.pct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105520" y="4254480"/>
            <a:ext cx="3429000" cy="2166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943600" y="609480"/>
            <a:ext cx="2514600" cy="206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533520" y="609480"/>
          <a:ext cx="2286000" cy="2054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609480"/>
                    <a:ext cx="228600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971800" y="609480"/>
          <a:ext cx="2884320" cy="20624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609480"/>
                    <a:ext cx="288432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33520" y="2895480"/>
          <a:ext cx="2286000" cy="15415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2895480"/>
                    <a:ext cx="228600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590920" y="4648320"/>
          <a:ext cx="2286000" cy="17604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4648320"/>
                    <a:ext cx="228600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3520" y="4648320"/>
          <a:ext cx="1871640" cy="17589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520" y="4648320"/>
                    <a:ext cx="187164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2895480" y="2860560"/>
            <a:ext cx="571500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Tech in Children’s 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re provider order entry with decision support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uideline-based documentation t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ternet-based disease management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eleconsul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lectronic health records other than order entry or documentation t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HRQ: Five technologies have the greatest potential to improve patient safety - Johnson KB, Davison CL. Ambul Pediatr 4(1):64-72, 2004 (AHRQ grant HS1186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4674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9:32:00Z</dcterms:created>
  <dc:creator>Eduardo Lyon</dc:creator>
  <dc:description/>
  <dc:language>en-US</dc:language>
  <cp:lastModifiedBy>Eduardo Lyon</cp:lastModifiedBy>
  <dcterms:modified xsi:type="dcterms:W3CDTF">2007-08-21T20:01:38Z</dcterms:modified>
  <cp:revision>1</cp:revision>
  <dc:subject/>
  <dc:title>PowerPoint Presentation</dc:title>
</cp:coreProperties>
</file>